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0B09-4783-4B0B-A0BD-569CF990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047-8697-4A20-B565-78844290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2673-B96E-47B5-ACA4-15BD5D98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970B-AC96-4205-BC14-8AC264A1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1E7F-B35C-4E8A-870F-1F34A980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4970-493B-485A-86B6-D155501E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5B68-3BB8-4561-8C1B-6C1FC3DA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C70F-9E4A-44D4-80F5-16776A96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3B81-5F32-4B62-BB97-1474951B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D8BA-2369-4921-9054-F997DCFF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4359-1FDA-47FB-88D7-BDD77994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E45C-A529-4882-B541-A39406BC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8FB2-37C1-42BD-9245-6C455AC4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B3E8-5FD3-4257-A449-F22F8B43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E5DC-79B0-427E-83A1-D2F08B16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B82E-77D9-493F-8073-22501D47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0C63-4F8E-44C7-921C-D8920D63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9DF1-6462-4FAF-BD20-81D14C20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7A5-CB19-4009-9059-86EB5CFE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621-36B0-4E9C-BF39-AAC45613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CB2-5CAF-47D7-933F-6AF9E5CB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B8D2-7E41-493D-9B1A-BD22C924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60E9-0117-4DC2-99C6-004CFB4D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247F-E3BE-41BD-B6F2-6F720A39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9ADA-4393-44CE-A1D1-E4EFF6F7800C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8C08-8A2C-4247-87E0-0D473D9B21D5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2017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479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r. Hamill, Con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r. Stevens, Kar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7" descr="http://www.moonbattery.com/archives/Muslims-riot-France.jpg"/>
          <p:cNvPicPr/>
          <p:nvPr/>
        </p:nvPicPr>
        <p:blipFill>
          <a:blip r:embed="rId3"/>
          <a:stretch/>
        </p:blipFill>
        <p:spPr>
          <a:xfrm>
            <a:off x="2286000" y="1905120"/>
            <a:ext cx="42861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ts 1965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efore community is looked down 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fter there was a sense of pride within community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acial tension prevailed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 199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rruption in police for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verty was ignor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acial tension prevail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Charles D. Lowery, John F. Marszalek.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The Greenwood Enctclopedia of African Civil Rights Vol. 1 First Edition.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Westport: Greenwood Press, 2003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Collection, Walter J. Brown Media Archives &amp; Peabody Awards.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Watts Riots.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2 6 2010 &lt;http://crdl.usg.edu/events/watts_riots/?Welcome&amp;Welcome&gt;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Geroge Church, Sylvesyer Monroe.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The Fire This Time.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11 5 1992. 2 6 2010 &lt;http://www.time.com/time/magazine/article/0,9171,975498,00.html&gt;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Johnson, Michael P.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ading the American Past Vol 2. Third Edition.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Boston: Bedford/St. Martin's, 2005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Rasmussen, Katie.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The 1965 Watts Riots .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6 6 2010 &lt;http://ktkat1717.tripod.com/id6.html&gt;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Williams, Micheal W.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The African American Encyclopedia Vol.1 Second Edition.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Marshall Cavendish Corporation, 2001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pare  and contrast the 1992 LA riots to the Watts neighborhood riots of 1965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are they similar in cause and outcom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do they reflect their time period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o- Poor, jobless, urban resid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-Riot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499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ooting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499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rso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499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f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499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urde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re- South Central Los Ange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n -April 29, 1992 – May 4, 199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y- Rodney King Powder Ke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6840" y="38858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http://www.youtube.com/watch?v=tgiR04ey7-M&amp;feature=relatedchoas news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http://www.youtube.com/user/Gerrit1231#p/u/3/xTT4GY3AWsw riots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http://www.youtube.com/watch?v=ROn_9302UHg beating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91" name="Group 8"/>
          <p:cNvGrpSpPr/>
          <p:nvPr/>
        </p:nvGrpSpPr>
        <p:grpSpPr>
          <a:xfrm>
            <a:off x="1143000" y="1828800"/>
            <a:ext cx="3505320" cy="3065760"/>
            <a:chOff x="1143000" y="1828800"/>
            <a:chExt cx="3505320" cy="3065760"/>
          </a:xfrm>
        </p:grpSpPr>
        <p:pic>
          <p:nvPicPr>
            <p:cNvPr id="92" name="Picture 5" descr="http://iwanticewater.files.wordpress.com/2009/07/rodney-king.jpg"/>
            <p:cNvPicPr/>
            <p:nvPr/>
          </p:nvPicPr>
          <p:blipFill>
            <a:blip r:embed="rId3"/>
            <a:stretch/>
          </p:blipFill>
          <p:spPr>
            <a:xfrm>
              <a:off x="1447560" y="1828800"/>
              <a:ext cx="2706840" cy="28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6"/>
            <p:cNvSpPr/>
            <p:nvPr/>
          </p:nvSpPr>
          <p:spPr>
            <a:xfrm>
              <a:off x="1143000" y="4648320"/>
              <a:ext cx="350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iwanticewater.files.wordpress.com/2009/0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Group 10"/>
          <p:cNvGrpSpPr/>
          <p:nvPr/>
        </p:nvGrpSpPr>
        <p:grpSpPr>
          <a:xfrm>
            <a:off x="4800600" y="1828800"/>
            <a:ext cx="3048120" cy="2989800"/>
            <a:chOff x="4800600" y="1828800"/>
            <a:chExt cx="3048120" cy="2989800"/>
          </a:xfrm>
        </p:grpSpPr>
        <p:pic>
          <p:nvPicPr>
            <p:cNvPr id="95" name="Picture 7" descr="http://i.dailymail.co.uk/i/pix/2009/07/09/article-1198484-00C69A0600000190-84_468x422.jpg"/>
            <p:cNvPicPr/>
            <p:nvPr/>
          </p:nvPicPr>
          <p:blipFill>
            <a:blip r:embed="rId4"/>
            <a:stretch/>
          </p:blipFill>
          <p:spPr>
            <a:xfrm>
              <a:off x="4800600" y="1828800"/>
              <a:ext cx="3048120" cy="274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9"/>
            <p:cNvSpPr/>
            <p:nvPr/>
          </p:nvSpPr>
          <p:spPr>
            <a:xfrm>
              <a:off x="5029200" y="4572360"/>
              <a:ext cx="259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i.dailymail.co.uk/i/pix/2009/07/09/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2"/>
          <a:stretch/>
        </p:blipFill>
        <p:spPr>
          <a:xfrm>
            <a:off x="291960" y="268200"/>
            <a:ext cx="866304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o - Poor, jobless, urban resid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-Riot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niper Fir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rso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f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urde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re – Watts neighborhood Los Angele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liforni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n – August 11, 1965 – August 15, 196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y – Immediate reaction to interracial police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rutal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556272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http://www.youtube.com/watch?v=BbElAfALWbM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4572000" y="1447920"/>
            <a:ext cx="3429000" cy="3370680"/>
            <a:chOff x="4572000" y="1447920"/>
            <a:chExt cx="3429000" cy="3370680"/>
          </a:xfrm>
        </p:grpSpPr>
        <p:pic>
          <p:nvPicPr>
            <p:cNvPr id="102" name="Picture 5" descr="http://1.bp.blogspot.com/_H58kU2Adzk4/SPddsi5dfnI/AAAAAAAACBQ/SvC_Xu8DvM0/s400/watts.jpg"/>
            <p:cNvPicPr/>
            <p:nvPr/>
          </p:nvPicPr>
          <p:blipFill>
            <a:blip r:embed="rId3"/>
            <a:stretch/>
          </p:blipFill>
          <p:spPr>
            <a:xfrm>
              <a:off x="4724280" y="1447920"/>
              <a:ext cx="3162600" cy="31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Box 6"/>
            <p:cNvSpPr/>
            <p:nvPr/>
          </p:nvSpPr>
          <p:spPr>
            <a:xfrm>
              <a:off x="4572000" y="4572360"/>
              <a:ext cx="3429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1.bp.blogspot.com/_H58kU2Adzk4/SPddsi5dfnI/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Group 10"/>
          <p:cNvGrpSpPr/>
          <p:nvPr/>
        </p:nvGrpSpPr>
        <p:grpSpPr>
          <a:xfrm>
            <a:off x="685800" y="1523880"/>
            <a:ext cx="3505320" cy="3218400"/>
            <a:chOff x="685800" y="1523880"/>
            <a:chExt cx="3505320" cy="3218400"/>
          </a:xfrm>
        </p:grpSpPr>
        <p:pic>
          <p:nvPicPr>
            <p:cNvPr id="105" name="Picture 7" descr="http://amciv.files.wordpress.com/2009/04/103rdstreet_watts_riot_1965.jpg"/>
            <p:cNvPicPr/>
            <p:nvPr/>
          </p:nvPicPr>
          <p:blipFill>
            <a:blip r:embed="rId4"/>
            <a:stretch/>
          </p:blipFill>
          <p:spPr>
            <a:xfrm>
              <a:off x="761760" y="1523880"/>
              <a:ext cx="3309480" cy="29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9"/>
            <p:cNvSpPr/>
            <p:nvPr/>
          </p:nvSpPr>
          <p:spPr>
            <a:xfrm>
              <a:off x="685800" y="4496040"/>
              <a:ext cx="350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amciv.files.wordpress.com/2009/04/103rdstree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ts 1965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4 Dea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ver 1,000 injur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$40 million in loss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,000 buildings destroy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4,000 Nat Guard deploy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ver 4,000 arrest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 199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3 Dea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ver 2,000 injur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$800 mil to $1 bill in loss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,600 fir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,100 building destroy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,000+ Nat Guard deploy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ts 1965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ension in Watts community and LAP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arked by mistreatment and arrest of individua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neven spread of wealth and pow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 199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evious instances of police brutal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arked by unfair verdict in King ca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neven spread of wealth and pow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ts 1965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air housing Ac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erner Commiss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ymptoms are treated but the problems remai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 199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usk to Dawn curfew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ymptoms are treated but the problems remai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ck of trust in author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lice officers fired (Rodney King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9:09:24Z</dcterms:created>
  <dc:creator>Administrator</dc:creator>
  <dc:description/>
  <dc:language>en-US</dc:language>
  <cp:lastModifiedBy>20554</cp:lastModifiedBy>
  <dcterms:modified xsi:type="dcterms:W3CDTF">2010-06-10T11:52:18Z</dcterms:modified>
  <cp:revision>39</cp:revision>
  <dc:subject/>
  <dc:title>Slide 1</dc:title>
</cp:coreProperties>
</file>